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0.wmf" ContentType="image/x-wmf"/>
  <Override PartName="/ppt/media/image21.jpeg" ContentType="image/jpe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EA93-48D2-439A-905D-019598FAD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cument Cam – pgs 21 – 25 – list with parameters follo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-uity Yellow pamph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ore Product C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tion -- $1 Con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77EA-EA0F-4487-8FE0-EA850E02E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cument Cam – pg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756F-5C9F-491E-A36B-ED45EC427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3C5D-AA4F-4D6A-8BB5-936002D1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22C2-5BE6-490E-B8AB-3EFFEC7B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52F-B502-4CF7-8AF5-A81F897F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78F-C7DD-42CA-A74E-6BDACDBA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6139-E72F-42FB-A4C1-AFE0B47D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DC0-5146-486A-9A64-D5982881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A1C-0CF3-4A97-826B-9D3DD874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7A9-AFF5-4A05-AE6C-E401AD76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4B5F-80FE-4122-883E-99EB424A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5D99-A6AB-4290-B03E-12FAD434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456A-70E8-4B88-881E-F92924B0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70FE-CD54-4760-A8AC-26CA4642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7DA2-BF65-46AD-8E96-1AF055D08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tiation through Menu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The Power of Cho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ila Mulb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d Springs Elemen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G Specia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C:\Documents and Settings\NShannon\Application Data\Microsoft\Media Catalog\Downloaded Clips\cl0\fd01067_.wmf"/>
          <p:cNvPicPr/>
          <p:nvPr/>
        </p:nvPicPr>
        <p:blipFill>
          <a:blip r:embed="rId1"/>
          <a:stretch/>
        </p:blipFill>
        <p:spPr>
          <a:xfrm>
            <a:off x="3352680" y="380880"/>
            <a:ext cx="20275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’s look at some of the different types of menus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C:\Documents and Settings\125shannonn\Local Settings\Temporary Internet Files\Content.IE5\KSE8U0ZP\MCj03895100000[1].wmf"/>
          <p:cNvPicPr/>
          <p:nvPr/>
        </p:nvPicPr>
        <p:blipFill>
          <a:blip r:embed="rId1"/>
          <a:stretch/>
        </p:blipFill>
        <p:spPr>
          <a:xfrm>
            <a:off x="2743200" y="2590920"/>
            <a:ext cx="327672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c-Tac-Toe Me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09480" y="1523880"/>
            <a:ext cx="80773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s 8 choices plus one “free-choice” covering either one topic or three topi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choose 3 projects completing a tic-tac-toe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ng: Each choice carries the same weight for grading – same level of diffic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: Flexible (if one topic the tic-tac-toe pattern does not need to be required), friendly design, equal we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ations: Few topics, student compromise (a student may feel forced to pick an activity in order to complete their tic-tac-to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period: 1-3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C:\Documents and Settings\NShannon\Application Data\Microsoft\Media Catalog\Downloaded Clips\cl0\dd00746_.wmf"/>
          <p:cNvPicPr/>
          <p:nvPr/>
        </p:nvPicPr>
        <p:blipFill>
          <a:blip r:embed="rId1"/>
          <a:stretch/>
        </p:blipFill>
        <p:spPr>
          <a:xfrm>
            <a:off x="914400" y="0"/>
            <a:ext cx="1454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Me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838080" y="22096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14400" y="1371600"/>
            <a:ext cx="73915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mplex than the tic-tac-toe men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s at least 10 choices and one “free choice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ng: Each choice has its own point value based on difficulty. Students must choose enough projects to total to 1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: Responsibility, concept reinforcement (allows for in-depth study of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ations: Few topics (best for one topic to be covered in depth), preparation (requires advanced plan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period: at most 2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C:\Documents and Settings\NShannon\Application Data\Microsoft\Media Catalog\Downloaded Clips\cl64\j0250922.wmf"/>
          <p:cNvPicPr/>
          <p:nvPr/>
        </p:nvPicPr>
        <p:blipFill>
          <a:blip r:embed="rId1"/>
          <a:stretch/>
        </p:blipFill>
        <p:spPr>
          <a:xfrm>
            <a:off x="6553080" y="228600"/>
            <a:ext cx="1889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5-8 Me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09480" y="1752480"/>
            <a:ext cx="78487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tion of the List men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s two choices with a point-value of 2, four choices with a point-value of 5, and two choices with a point-value of 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ng: Students must choose projects to a total of 10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: Responsibility, guaranteed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ations: One topic, no “Free Choice”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period: at most 1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C:\Documents and Settings\NShannon\Application Data\Microsoft\Media Catalog\Downloaded Clips\cl0\sy00689_.wmf"/>
          <p:cNvPicPr/>
          <p:nvPr/>
        </p:nvPicPr>
        <p:blipFill>
          <a:blip r:embed="rId1"/>
          <a:stretch/>
        </p:blipFill>
        <p:spPr>
          <a:xfrm>
            <a:off x="5334120" y="457200"/>
            <a:ext cx="892080" cy="1011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Documents and Settings\NShannon\Application Data\Microsoft\Media Catalog\Downloaded Clips\cl0\sy00692_.wmf"/>
          <p:cNvPicPr/>
          <p:nvPr/>
        </p:nvPicPr>
        <p:blipFill>
          <a:blip r:embed="rId2"/>
          <a:stretch/>
        </p:blipFill>
        <p:spPr>
          <a:xfrm>
            <a:off x="6477120" y="457200"/>
            <a:ext cx="928440" cy="984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C:\Documents and Settings\NShannon\Application Data\Microsoft\Media Catalog\Downloaded Clips\cl0\sy00695_.wmf"/>
          <p:cNvPicPr/>
          <p:nvPr/>
        </p:nvPicPr>
        <p:blipFill>
          <a:blip r:embed="rId3"/>
          <a:stretch/>
        </p:blipFill>
        <p:spPr>
          <a:xfrm>
            <a:off x="7696080" y="457200"/>
            <a:ext cx="90324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14400" y="1523880"/>
            <a:ext cx="76960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fferentiating Instruction with Menus - Math/Science/Social Studies/Language A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Laurie Westph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ing Gifted Kids in the Regular Classro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Susan Winebre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ccessful Teaching in the Differentiated Classro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arolyn C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Differentiating Instruction With Menus Front Cover"/>
          <p:cNvPicPr/>
          <p:nvPr/>
        </p:nvPicPr>
        <p:blipFill>
          <a:blip r:embed="rId1"/>
          <a:stretch/>
        </p:blipFill>
        <p:spPr>
          <a:xfrm>
            <a:off x="3505320" y="4038480"/>
            <a:ext cx="1752480" cy="227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Teaching Gifted Kids in the Regular Classroom: Strategies and…"/>
          <p:cNvPicPr/>
          <p:nvPr/>
        </p:nvPicPr>
        <p:blipFill>
          <a:blip r:embed="rId2"/>
          <a:stretch/>
        </p:blipFill>
        <p:spPr>
          <a:xfrm>
            <a:off x="1143000" y="4572000"/>
            <a:ext cx="11095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Successful Teaching in the Differentiated Classroom [Book]"/>
          <p:cNvPicPr/>
          <p:nvPr/>
        </p:nvPicPr>
        <p:blipFill>
          <a:blip r:embed="rId3"/>
          <a:stretch/>
        </p:blipFill>
        <p:spPr>
          <a:xfrm>
            <a:off x="6553080" y="4191120"/>
            <a:ext cx="1401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ch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can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what fits their learning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what fits their educational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greater sense of in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excited about their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in more foc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ediately apply the knowledge being presented i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C:\Documents and Settings\125shannonn\Local Settings\Temporary Internet Files\Content.IE5\KSE8U0ZP\MCj03974900000[1].wmf"/>
          <p:cNvPicPr/>
          <p:nvPr/>
        </p:nvPicPr>
        <p:blipFill>
          <a:blip r:embed="rId1"/>
          <a:stretch/>
        </p:blipFill>
        <p:spPr>
          <a:xfrm>
            <a:off x="5105520" y="1219320"/>
            <a:ext cx="182556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est learning takes place when a student has a desire to learn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43000" y="21333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tudents have a desire to learn anything that is new to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 only want to learn things of interest to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offering different activities from which to choose teachers are able to create a desire to lear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C:\Documents and Settings\125shannonn\Local Settings\Temporary Internet Files\Content.IE5\JS850FIX\MCj03974640000[1].wmf"/>
          <p:cNvPicPr/>
          <p:nvPr/>
        </p:nvPicPr>
        <p:blipFill>
          <a:blip r:embed="rId1"/>
          <a:stretch/>
        </p:blipFill>
        <p:spPr>
          <a:xfrm>
            <a:off x="7315200" y="4419720"/>
            <a:ext cx="13809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as we seek to satisfy our hunger when we look at a restaurant menu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400" y="2743200"/>
            <a:ext cx="3733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ice menus allow students to satisfy their hunger for lear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C:\Documents and Settings\NShannon\Application Data\Microsoft\Media Catalog\Downloaded Clips\cla3\j0409833.wmf"/>
          <p:cNvPicPr/>
          <p:nvPr/>
        </p:nvPicPr>
        <p:blipFill>
          <a:blip r:embed="rId1"/>
          <a:stretch/>
        </p:blipFill>
        <p:spPr>
          <a:xfrm>
            <a:off x="5410080" y="2057400"/>
            <a:ext cx="291168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nus offer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19320" y="21333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st of activities for students to choose from to show what they have l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ree-choice option for those students who want to place a “special order” for their learning activ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C:\Documents and Settings\125shannonn\Local Settings\Temporary Internet Files\Content.IE5\JS850FIX\MCj03341500000[1].wmf"/>
          <p:cNvPicPr/>
          <p:nvPr/>
        </p:nvPicPr>
        <p:blipFill>
          <a:blip r:embed="rId1"/>
          <a:stretch/>
        </p:blipFill>
        <p:spPr>
          <a:xfrm>
            <a:off x="7238880" y="4343400"/>
            <a:ext cx="12160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you begin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828800" y="2209680"/>
            <a:ext cx="7010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students’ prior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your resources – how much information is readily available for students to us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your time constrai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C:\Program Files\Microsoft Office\MEDIA\CAGCAT10\j0234131.wmf"/>
          <p:cNvPicPr/>
          <p:nvPr/>
        </p:nvPicPr>
        <p:blipFill>
          <a:blip r:embed="rId1"/>
          <a:stretch/>
        </p:blipFill>
        <p:spPr>
          <a:xfrm>
            <a:off x="6781680" y="4267080"/>
            <a:ext cx="1451160" cy="1543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7238880" y="1295280"/>
            <a:ext cx="762120" cy="125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Documents and Settings\125shannonn\Local Settings\Temporary Internet Files\Content.IE5\TSH11UNS\MCj04123980000[1].wmf"/>
          <p:cNvPicPr/>
          <p:nvPr/>
        </p:nvPicPr>
        <p:blipFill>
          <a:blip r:embed="rId3"/>
          <a:stretch/>
        </p:blipFill>
        <p:spPr>
          <a:xfrm>
            <a:off x="0" y="2971800"/>
            <a:ext cx="1704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use men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1066680" y="1981080"/>
            <a:ext cx="7391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3 main ways to use menus in the classro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richment/Supplementary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” Activities – Replacing direct t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-lessons followed by independent assessmen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C:\Documents and Settings\125shannonn\Local Settings\Temporary Internet Files\Content.IE5\8YFZVBKL\MCj04361610000[1].wmf"/>
          <p:cNvPicPr/>
          <p:nvPr/>
        </p:nvPicPr>
        <p:blipFill>
          <a:blip r:embed="rId1"/>
          <a:stretch/>
        </p:blipFill>
        <p:spPr>
          <a:xfrm>
            <a:off x="7010280" y="457200"/>
            <a:ext cx="184176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2133720" y="2743200"/>
            <a:ext cx="548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esth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:\Documents and Settings\125shannonn\Local Settings\Temporary Internet Files\Content.IE5\8YFZVBKL\MCj03974340000[1].wmf"/>
          <p:cNvPicPr/>
          <p:nvPr/>
        </p:nvPicPr>
        <p:blipFill>
          <a:blip r:embed="rId1"/>
          <a:stretch/>
        </p:blipFill>
        <p:spPr>
          <a:xfrm>
            <a:off x="4267080" y="4952880"/>
            <a:ext cx="979560" cy="990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125shannonn\Local Settings\Temporary Internet Files\Content.IE5\JS850FIX\MCj03975020000[1].wmf"/>
          <p:cNvPicPr/>
          <p:nvPr/>
        </p:nvPicPr>
        <p:blipFill>
          <a:blip r:embed="rId2"/>
          <a:stretch/>
        </p:blipFill>
        <p:spPr>
          <a:xfrm>
            <a:off x="3809880" y="27432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Documents and Settings\125shannonn\Local Settings\Temporary Internet Files\Content.IE5\8YFZVBKL\MCj03975060000[1].wmf"/>
          <p:cNvPicPr/>
          <p:nvPr/>
        </p:nvPicPr>
        <p:blipFill>
          <a:blip r:embed="rId3"/>
          <a:stretch/>
        </p:blipFill>
        <p:spPr>
          <a:xfrm>
            <a:off x="5486400" y="3733920"/>
            <a:ext cx="89532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1371600" y="16002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us should include a variety of product choices that cover all three learning styles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 Ch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838080" y="1828800"/>
            <a:ext cx="77724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menus allow for a “free choice” op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must submit a proposal for a “free choic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beginning menus hold a discussion with the class regarding “free choice” options and their expect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 choice” proposals must be submitt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rov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udents begin working on their proje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 choice” proposal forms should be available to students. If approved, these can easily be stapled to the menu she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C:\Documents and Settings\NShannon\Application Data\Microsoft\Media Catalog\Downloaded Clips\cl7\bd19984_.wmf"/>
          <p:cNvPicPr/>
          <p:nvPr/>
        </p:nvPicPr>
        <p:blipFill>
          <a:blip r:embed="rId1"/>
          <a:stretch/>
        </p:blipFill>
        <p:spPr>
          <a:xfrm>
            <a:off x="6858000" y="228600"/>
            <a:ext cx="1677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3:31:02Z</dcterms:created>
  <dc:creator> </dc:creator>
  <dc:description/>
  <dc:language>en-US</dc:language>
  <cp:lastModifiedBy>Sheila</cp:lastModifiedBy>
  <dcterms:modified xsi:type="dcterms:W3CDTF">2010-08-20T03:02:48Z</dcterms:modified>
  <cp:revision>24</cp:revision>
  <dc:subject/>
  <dc:title>Differentiation through Menus    The Power of Choice</dc:title>
</cp:coreProperties>
</file>